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D1B-CD53-4E29-A200-AE48EDCE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311-B8DE-4256-B3D9-756CD55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116-138B-4DF2-9B23-B88CD0A7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727-680D-46CE-A91B-8DBE666D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93C9-E6A5-450F-B0DA-F9340801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89E9-37CD-4FED-9A58-ABFB403D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16B-451C-4AF4-BBBC-E46BFBE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A511-14BD-4A6F-8A31-BA1C34E0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7352-C9DE-44B6-96AE-BB6E99B7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9478-6E4B-47BF-B2B0-842E847D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32C1-6F86-4C4A-9F26-6FC91979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EDE-BDF3-496A-BC2C-FE905662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B1B7-D1FC-4247-ABC4-6F53CBD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1B33-7B32-4D6D-9AF7-390D4981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0AC0-FB92-4D6B-B65A-F73DE8CD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CF87-8A43-42A4-9BAB-F32F91A1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830B-9CBB-4C9B-9931-43FAF205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AC5-63E7-438A-8081-EA352A46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745-0EC3-4362-ADFB-5F9F540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B6A-5AD6-4D59-BD94-C5C0E116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FB5-BA5F-4B61-8F39-60D82B2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DFF-543C-4D35-8E1C-8640499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102-151E-4503-9350-46D2386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1D5-4ECE-4037-AF56-9287CAB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0C2-E96F-4B01-9C73-78032B2BDD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D84-AEE6-46EA-8EB2-E7C5576458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43160"/>
            <a:ext cx="9067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Основы ИНТЕРНЕТ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зентация ученика 9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”А”</a:t>
            </a:r>
            <a:r>
              <a:rPr b="1" lang="de-DE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ла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О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орисоглебская гимназия №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нкратова Юлиана Олегови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01-2002 учебный г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33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оменная система им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тавит в соответствие числовом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адресу каждого компьютера уникальное доменное и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оменные адрес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рисваиваются в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Центре сетевой информации Интерне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NIC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читаются справа налево. Крайняя правая  группа букв обозначает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домен верхнего уровн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Домены верхнего уровня бывают двух типов: географические (двухбуквенные - каждой стране соответствует двухбуквенный код) и административные (трехбуквенны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880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914400"/>
            <a:ext cx="9144000" cy="5943600"/>
            <a:chOff x="0" y="914400"/>
            <a:chExt cx="9144000" cy="5943600"/>
          </a:xfrm>
        </p:grpSpPr>
        <p:sp>
          <p:nvSpPr>
            <p:cNvPr id="172" name=""/>
            <p:cNvSpPr/>
            <p:nvPr/>
          </p:nvSpPr>
          <p:spPr>
            <a:xfrm>
              <a:off x="6985080" y="6167520"/>
              <a:ext cx="2158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Ш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72160" y="6167520"/>
              <a:ext cx="1312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40160" y="6167520"/>
              <a:ext cx="31320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екоммер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167520"/>
              <a:ext cx="25401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r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85080" y="5475240"/>
              <a:ext cx="21589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Англия/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рланд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72160" y="5475240"/>
              <a:ext cx="13129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40160" y="5475240"/>
              <a:ext cx="31320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Компьютерная се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475240"/>
              <a:ext cx="25401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85080" y="4784760"/>
              <a:ext cx="2158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Бывший ССС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2160" y="4784760"/>
              <a:ext cx="1312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40160" y="4784760"/>
              <a:ext cx="31320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оенная(США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784760"/>
              <a:ext cx="25401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i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85080" y="4094280"/>
              <a:ext cx="2158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Росс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72160" y="4094280"/>
              <a:ext cx="1312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40160" y="4094280"/>
              <a:ext cx="31320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еждународ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4094280"/>
              <a:ext cx="25401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5080" y="3403440"/>
              <a:ext cx="215892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Япо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72160" y="3403440"/>
              <a:ext cx="131292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40160" y="3403440"/>
              <a:ext cx="313200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авительственная (США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3403440"/>
              <a:ext cx="254016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o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5080" y="2711520"/>
              <a:ext cx="21589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Герм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72160" y="2711520"/>
              <a:ext cx="13129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40160" y="2711520"/>
              <a:ext cx="31320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Образова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2711520"/>
              <a:ext cx="2540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d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85080" y="2021040"/>
              <a:ext cx="2158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Кана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72160" y="2021040"/>
              <a:ext cx="13129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40160" y="2021040"/>
              <a:ext cx="31320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Коммер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2021040"/>
              <a:ext cx="25401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85080" y="1219320"/>
              <a:ext cx="2158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ff00"/>
                  </a:solidFill>
                  <a:latin typeface="Times New Roman"/>
                </a:rPr>
                <a:t>Стра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990720"/>
              <a:ext cx="149868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ff00"/>
                  </a:solidFill>
                  <a:latin typeface="Times New Roman"/>
                </a:rPr>
                <a:t>Географи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ff00"/>
                  </a:solidFill>
                  <a:latin typeface="Times New Roman"/>
                </a:rPr>
                <a:t>ческие доме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1295280"/>
              <a:ext cx="3124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ff00"/>
                  </a:solidFill>
                  <a:latin typeface="Times New Roman"/>
                </a:rPr>
                <a:t>Тип организ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914400"/>
              <a:ext cx="254016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ff00"/>
                  </a:solidFill>
                  <a:latin typeface="Times New Roman"/>
                </a:rPr>
                <a:t>Административные доме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2021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2711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4034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40942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47847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4752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6167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914400"/>
              <a:ext cx="0" cy="5943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914400"/>
              <a:ext cx="0" cy="594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10080" y="914400"/>
              <a:ext cx="0" cy="594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85080" y="914400"/>
              <a:ext cx="0" cy="594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0" y="914400"/>
              <a:ext cx="0" cy="5943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менные имена второго уровн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доменах верхнего уровня административного типа распределяют международные,  а в доменах географического типа - национальные центры. Компании, являющиеся провайдерами Интернет, имеют право предоставлять своим клиентам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менные адреса третьего уровн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наприме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pk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на компьютеров, которые являются серверами Интернет, включают в себя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олное доменное имя и собственное им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омпьютера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icrosoft.com , dialup.mtu.ru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3605040"/>
            <a:ext cx="8234280" cy="2619720"/>
            <a:chOff x="457200" y="3605040"/>
            <a:chExt cx="8234280" cy="2619720"/>
          </a:xfrm>
        </p:grpSpPr>
        <p:sp>
          <p:nvSpPr>
            <p:cNvPr id="220" name=""/>
            <p:cNvSpPr/>
            <p:nvPr/>
          </p:nvSpPr>
          <p:spPr>
            <a:xfrm>
              <a:off x="457200" y="3605040"/>
              <a:ext cx="2824200" cy="2567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3657600"/>
              <a:ext cx="2824200" cy="2567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0400" y="4579920"/>
              <a:ext cx="2178000" cy="1503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8520" y="4495680"/>
              <a:ext cx="2179440" cy="1681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5410080"/>
              <a:ext cx="1452600" cy="7081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25960" y="3782880"/>
              <a:ext cx="88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5920" y="38098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r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05880" y="4844880"/>
              <a:ext cx="13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13040" y="53751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9240" y="45720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mt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5562720"/>
              <a:ext cx="106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mipkr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8880" y="502920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dialu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6324480" y="4648320"/>
            <a:ext cx="646200" cy="761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4648320"/>
                      <a:ext cx="64620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"/>
            <p:cNvGraphicFramePr/>
            <p:nvPr/>
          </p:nvGraphicFramePr>
          <p:xfrm>
            <a:off x="860400" y="4667400"/>
            <a:ext cx="727200" cy="7855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0400" y="4667400"/>
                      <a:ext cx="72720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"/>
          <p:cNvSpPr/>
          <p:nvPr/>
        </p:nvSpPr>
        <p:spPr>
          <a:xfrm>
            <a:off x="2442600" y="633888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истема доменных и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ротокол передачи данных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 TCP\I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et Protocol (IP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.е. протокол маршрутизации обеспечивает маршрутизацию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акетов, т.е. доставку информации от компьютера-отправителя к компьютеру-получат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smission Control Protocol (TCP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.е. транспортный протокол обеспечивает разбиение файлов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кеты в процессе передачи и сборку файлов в процессе полу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Интернет - телефония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ОМПЬЮТЕР - ТЕЛЕФОН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акое соединение дает возможность пользователю сети Интернет позвонить на обычный телефон непосредственно со своего компьютера. Ваш компьютер связывается со специальным телефонным сервером Интернет, который подключен и к Интернет, и к телефонной се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ЛЕФОН - КОМПЬЮТЕ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акое соединение дает возможность пользователю позвонить с обычного телефона на компьютер, подключенный к Интер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ОМПЬЮТЕР - КОМПЬЮТЕ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акое соединение дает возможность пользователю позвонить с одного компьютера на другой компьютер при условии, что они оба подключены в данный момент к Интер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оиск информации в Интерне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ниверсальный указатель ресурсов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URL-Universal Resource Locator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ключает в себя способ доступа к документу, имя сервера, на котором находится документ, а также путь к фай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оисковые системы общего назнач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зволяют находить документы во Всемирной паутине по ключевым словам. Принцип на котором основано большинство таких систем, состоит в том, что специальные программы-роботы автоматически «обходят»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ерверы, читают и индексируют все встречающиеся документы, выделяя при этом ключевые слова, относящиеся к данному предмету, и запоминая их вместе с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этого документа в базе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пециализированные поисковые систе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зволяют  находить информацию, находящуюся в других  информационных «слоях» Интернет, смежных со Всемирной паутиной, например, 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ерверах. Примером такой системы является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cos:            http://ftpsearch.lyco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-3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Всемирная паутина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семирная паутин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это перевод английского словосочета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ld Wide Web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торое часто обозначается как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, Web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даж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Бурное развитие сети Интернет, которое происходило на протяжении 90-х гг., во многом обусловлено появлением новой технологии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В основу этой технологии положена технология гипертекста, распространенная на все компьютеры, подключенные к сети Интер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ть технологии гипертекста состоит в том, что текст структурируется, т.е. в нем выделяются слова-ссылки. При активизации ссылки (например, с помощью щелчка кнопкой мыши) происходит переход на заданный в ссылке фрагмент тек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семирная паутин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это десятки миллионов серверов Интернет, содержащи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страницы, в которых используется технология гипертек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здани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страниц осуществляется с помощью языка разметки гипертекста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ML (Hyper Text Markup Language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Основа используемой в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ехнологии состоит в том, что в обычный текстовый документ вставляются управляющие символы (тэги), в результате чего мы получае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страницу. Браузер при загрузк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страницы представляет ее на экране в том виде, который задается тэг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Основы Интерне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окальные, региональные, корпоративные и глобальные компьютерные се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лобальная компьютерная сеть Интерн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дресация в Интерн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токол передачи данных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тернет - телефо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иск информации в Интерн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семирная паути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Локальные, региональные, корпоративные и глобальные компьютерные сет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омпьютерная се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редставляет собой коммуникационную систему,  позволяющую пользователям совместно использовать ресурсы компьютеров, а также периферийных устройств, подключенных к с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окальная се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объединяет компьютеры,  установленные в одном помещении или в одном здании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окальные сети не позволяют обеспечить совместный доступ к информации пользователям, находящимся, например, в различных частях города. На помощь приходят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региональные сет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, объединяющие компьютеры в пределах одного реги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орпоративная се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может объединять тысячи и десятки тысяч компьютеров, размещенных в различных странах и городах (к примеру сеть корпораци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, MS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ребности формирования единого мирового информационного пространства привели к созданию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глобальн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мпьютерной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ет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нтернет. В настоящее время в десятках миллионов компьютеров, подключенных  к Интернет, хранится громадный объем информации и сотни миллионов людей пользуются  информационными услугами этой с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36396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Глобальная компьютерная сеть Интернет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терне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это глобальная компьютерная сеть, объединяющая многие локальные, региональные и корпоративные сети и включающая  десятки миллионов компьюте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8862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аркас» Интернет составляют более 40 млн. серверов, постоянно подключенных к сети, из них в России около 200 тыс. (на январь 1999 г.). К ним, в свою очередь,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457200"/>
            <a:ext cx="91440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глобальных компьютерных сетей началось в 80-е гг. В 1981 г. в сети Интернет насчитывалось лишь 213 компьютеров, к концу 80-х гг. количество подключенных к сети компьютеров возросло до 150 тыс., однако наиболее быстрый экспоненциальный рост их количества происходил в 90-е 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ы убедиться в этом, достаточно проследить рост количества серверов в сети Интернет (данные на январь каждого года), которое к началу 1999 г. достигло 43 млн. (см. диаграмм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5638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NinaCTT"/>
              </a:rPr>
              <a:t>Рост количества серверов Интернет в 90-е 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24160" y="34290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inaCTT"/>
              </a:rPr>
              <a:t>0,4    0,7    1,3    2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54040" y="2743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inaCTT"/>
              </a:rPr>
              <a:t>4,9   9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15400" y="2133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inaCTT"/>
              </a:rPr>
              <a:t>1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01200" y="12193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inaCTT"/>
              </a:rPr>
              <a:t>29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7000" y="3808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inaCTT"/>
              </a:rPr>
              <a:t>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6212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азвитие глобальной компьютерной сет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ребует наличия каналов связи с высокой пропускной способ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1999 г. началась реализация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ждународного проект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 созданию сети оптико-волоконных сверхскоростных каналов связи, общая протяженность которых должна составлять        275 тыс. км  и которые должны объединить 174 ст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 степени информатиза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тдельных стран можно судить по количеству серверов Интернет  и количеству пользователей ее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7432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вое мест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веренно занимают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СШ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серверов около 28 млн., а пользователей около 60 млн.), затем идут такие страны, как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Япония, Великобритания, Герм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800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о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анимает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22-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есто (серверов около 200 тыс., а пользователей - около 1 млн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Адресация в Интерне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666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того чтобы в процессе обмена информацией могло произойти соединение компьютеров, в Интернет существует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единая система адрес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основанная на использовании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P -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дрес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33640" y="3124080"/>
            <a:ext cx="9349200" cy="101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NinaCTT"/>
              </a:rPr>
              <a:t>Каждый компьютер, подключенный к Интернет, имеет с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NinaCTT"/>
              </a:rPr>
              <a:t>уникальный 32-битовый </a:t>
            </a:r>
            <a:r>
              <a:rPr b="0" lang="en-US" sz="2400" spc="-1" strike="noStrike">
                <a:solidFill>
                  <a:srgbClr val="ffff00"/>
                </a:solidFill>
                <a:latin typeface="NinaCTT"/>
              </a:rPr>
              <a:t>IP - </a:t>
            </a:r>
            <a:r>
              <a:rPr b="0" lang="ru-RU" sz="2400" spc="-1" strike="noStrike">
                <a:solidFill>
                  <a:srgbClr val="ffff00"/>
                </a:solidFill>
                <a:latin typeface="NinaCTT"/>
              </a:rPr>
              <a:t>ад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862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911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ы легко могут связаться друг с другом по числовом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адресу, однако человеку запомнить числовой адрес нелегко, и для удобства была введена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оменная Система Им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S - Domain Name System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нкратов Юлиан</dc:creator>
  <dc:description/>
  <dc:language>en-US</dc:language>
  <cp:lastModifiedBy>---</cp:lastModifiedBy>
  <dcterms:modified xsi:type="dcterms:W3CDTF">2003-04-01T11:35:28Z</dcterms:modified>
  <cp:revision>8</cp:revision>
  <dc:subject>Основы Интернет</dc:subject>
  <dc:title>Основы Интернет</dc:title>
</cp:coreProperties>
</file>